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92CE-0618-4D33-B986-1A85B817F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E144-9DE8-41F6-B31A-F27B243E8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36B0-3209-48FB-8E4D-1A1FDA79D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CE99-371B-4E9A-8943-80071C40B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5F26-1B28-4CDF-B32B-8BCB88CAF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8256-558E-47F3-B50E-AF105A788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F0C2-0211-4691-A58D-01590D169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45CC-5A5B-4256-9DC0-9FD2A5C7B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239E-C1C1-4731-94EE-2763319EC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EB33-0830-4CA0-9B18-073F90CF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D8DB-82F6-4F8F-864C-F79BBD92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F1D3-B442-435A-A6F4-F6B8CB9D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B99D1-06E7-4526-BF72-BB10984423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00200" y="5214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alibri"/>
              </a:rPr>
              <a:t>Krejzová Alice, Povolná Martina, Foglová Luc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Obdélník 8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6827760" cy="1152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3276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276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délník 1" descr=""/>
          <p:cNvPicPr/>
          <p:nvPr/>
        </p:nvPicPr>
        <p:blipFill>
          <a:blip r:embed="rId1"/>
          <a:stretch/>
        </p:blipFill>
        <p:spPr>
          <a:xfrm>
            <a:off x="1279440" y="804960"/>
            <a:ext cx="6853320" cy="1152360"/>
          </a:xfrm>
          <a:prstGeom prst="rect">
            <a:avLst/>
          </a:prstGeom>
          <a:ln w="0">
            <a:noFill/>
          </a:ln>
        </p:spPr>
      </p:pic>
      <p:sp>
        <p:nvSpPr>
          <p:cNvPr id="78" name="TextovéPole 3"/>
          <p:cNvSpPr/>
          <p:nvPr/>
        </p:nvSpPr>
        <p:spPr>
          <a:xfrm>
            <a:off x="355680" y="3857760"/>
            <a:ext cx="8059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jvýhodnější je půjčit peníz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amarádovi, přestože je to nejrizikovějš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760" y="171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ěkujeme za pozor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10" descr="C:\Documents and Settings\skola\Local Settings\Temporary Internet Files\Content.IE5\PUTQN72Y\MCj04241980000[1].wmf"/>
          <p:cNvPicPr/>
          <p:nvPr/>
        </p:nvPicPr>
        <p:blipFill>
          <a:blip r:embed="rId1"/>
          <a:stretch/>
        </p:blipFill>
        <p:spPr>
          <a:xfrm>
            <a:off x="214200" y="5000760"/>
            <a:ext cx="2152800" cy="13809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C:\Documents and Settings\skola\Local Settings\Temporary Internet Files\Content.IE5\NT2XGS1P\MCj04242180000[1].wmf"/>
          <p:cNvPicPr/>
          <p:nvPr/>
        </p:nvPicPr>
        <p:blipFill>
          <a:blip r:embed="rId2"/>
          <a:stretch/>
        </p:blipFill>
        <p:spPr>
          <a:xfrm>
            <a:off x="7072200" y="4857840"/>
            <a:ext cx="1860840" cy="156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Obdélník 1" descr=""/>
          <p:cNvPicPr/>
          <p:nvPr/>
        </p:nvPicPr>
        <p:blipFill>
          <a:blip r:embed="rId1"/>
          <a:stretch/>
        </p:blipFill>
        <p:spPr>
          <a:xfrm>
            <a:off x="1566720" y="231840"/>
            <a:ext cx="5967720" cy="1974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714240" y="2643120"/>
          <a:ext cx="7929720" cy="3457800"/>
        </p:xfrm>
        <a:graphic>
          <a:graphicData uri="http://schemas.openxmlformats.org/drawingml/2006/table">
            <a:tbl>
              <a:tblPr/>
              <a:tblGrid>
                <a:gridCol w="1163880"/>
                <a:gridCol w="1163520"/>
                <a:gridCol w="1289160"/>
                <a:gridCol w="1163520"/>
                <a:gridCol w="1163520"/>
                <a:gridCol w="992160"/>
                <a:gridCol w="993960"/>
              </a:tblGrid>
              <a:tr h="35640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 = 5 % p. 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 = j</a:t>
                      </a:r>
                      <a:r>
                        <a:rPr b="1" lang="pl-PL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x p/100 x d/3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640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165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 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5 000 x 5/100 x 360/3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 = 3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 = 8 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6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</a:t>
                      </a:r>
                      <a:r>
                        <a:rPr b="1" lang="cs-CZ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n 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173 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hody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 gridSpan="7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ástka z úroků je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50 K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výhody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námý nemusí splat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ní pojiště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oční úroky u jednotlivých produktů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3995640" cy="76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GE Money Ba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79280" y="4143240"/>
          <a:ext cx="4608720" cy="1113120"/>
        </p:xfrm>
        <a:graphic>
          <a:graphicData uri="http://schemas.openxmlformats.org/drawingml/2006/table">
            <a:tbl>
              <a:tblPr/>
              <a:tblGrid>
                <a:gridCol w="2303640"/>
                <a:gridCol w="23050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mínovaný v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 067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řic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402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ěžn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3280" y="264276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Česká spořitel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932360" y="4149720"/>
          <a:ext cx="4041720" cy="1112760"/>
        </p:xfrm>
        <a:graphic>
          <a:graphicData uri="http://schemas.openxmlformats.org/drawingml/2006/table">
            <a:tbl>
              <a:tblPr/>
              <a:tblGrid>
                <a:gridCol w="2021040"/>
                <a:gridCol w="2020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kladov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 137,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kladní kníž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963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obn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62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ovnání ceny zřízení produkt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28760" y="2999880"/>
            <a:ext cx="40399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GE Money Bank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79280" y="4286160"/>
          <a:ext cx="4608720" cy="1112760"/>
        </p:xfrm>
        <a:graphic>
          <a:graphicData uri="http://schemas.openxmlformats.org/drawingml/2006/table">
            <a:tbl>
              <a:tblPr/>
              <a:tblGrid>
                <a:gridCol w="2301840"/>
                <a:gridCol w="2306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mínovaný v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řic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ěžn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3280" y="3071880"/>
            <a:ext cx="4042080" cy="4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Česká spořitel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932360" y="4292640"/>
          <a:ext cx="4041720" cy="1112760"/>
        </p:xfrm>
        <a:graphic>
          <a:graphicData uri="http://schemas.openxmlformats.org/drawingml/2006/table">
            <a:tbl>
              <a:tblPr/>
              <a:tblGrid>
                <a:gridCol w="2021040"/>
                <a:gridCol w="2020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kladov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kladní kníž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obn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platky za vedení produktů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měsíčně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56760" y="26427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GE Money Ba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3280" y="264276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Česká spořitel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932360" y="4292640"/>
          <a:ext cx="4041720" cy="1112760"/>
        </p:xfrm>
        <a:graphic>
          <a:graphicData uri="http://schemas.openxmlformats.org/drawingml/2006/table">
            <a:tbl>
              <a:tblPr/>
              <a:tblGrid>
                <a:gridCol w="2021040"/>
                <a:gridCol w="2020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kladov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kladní kníž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obn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179280" y="4286160"/>
          <a:ext cx="4537080" cy="1112760"/>
        </p:xfrm>
        <a:graphic>
          <a:graphicData uri="http://schemas.openxmlformats.org/drawingml/2006/table">
            <a:tbl>
              <a:tblPr/>
              <a:tblGrid>
                <a:gridCol w="2268720"/>
                <a:gridCol w="22683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mínovaný v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řic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ěžn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z. další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Běžné účty GE Money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k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ěsíční poplate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to Genius Acti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 K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to Genius Activ 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 K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to Genius Gol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9 K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to Geni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 K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ěžný účet Geni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 K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ěžný korunový úč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vede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ěsíční zasílání výpis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28760" y="264276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GE Money Ba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3280" y="264276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Česká spořitel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79280" y="4221000"/>
          <a:ext cx="4608720" cy="1113120"/>
        </p:xfrm>
        <a:graphic>
          <a:graphicData uri="http://schemas.openxmlformats.org/drawingml/2006/table">
            <a:tbl>
              <a:tblPr/>
              <a:tblGrid>
                <a:gridCol w="2303640"/>
                <a:gridCol w="23050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mínovaný v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řic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ěžn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z. další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4932360" y="4221000"/>
          <a:ext cx="4041720" cy="1108080"/>
        </p:xfrm>
        <a:graphic>
          <a:graphicData uri="http://schemas.openxmlformats.org/drawingml/2006/table">
            <a:tbl>
              <a:tblPr/>
              <a:tblGrid>
                <a:gridCol w="2021040"/>
                <a:gridCol w="2020680"/>
              </a:tblGrid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kladov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kladní kníž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obn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149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rušení produkt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79280" y="4149720"/>
          <a:ext cx="4572000" cy="1224000"/>
        </p:xfrm>
        <a:graphic>
          <a:graphicData uri="http://schemas.openxmlformats.org/drawingml/2006/table">
            <a:tbl>
              <a:tblPr/>
              <a:tblGrid>
                <a:gridCol w="2287800"/>
                <a:gridCol w="2284200"/>
              </a:tblGrid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mínovaný v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řic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ěžn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71" name="Rectangle 41"/>
          <p:cNvSpPr/>
          <p:nvPr/>
        </p:nvSpPr>
        <p:spPr>
          <a:xfrm>
            <a:off x="971640" y="3068640"/>
            <a:ext cx="28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GE Money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Zástupný symbol pro text 4"/>
          <p:cNvSpPr/>
          <p:nvPr/>
        </p:nvSpPr>
        <p:spPr>
          <a:xfrm>
            <a:off x="4859280" y="28526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Česká spořitel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859280" y="4149720"/>
          <a:ext cx="4100400" cy="1224000"/>
        </p:xfrm>
        <a:graphic>
          <a:graphicData uri="http://schemas.openxmlformats.org/drawingml/2006/table">
            <a:tbl>
              <a:tblPr/>
              <a:tblGrid>
                <a:gridCol w="2051280"/>
                <a:gridCol w="2049120"/>
              </a:tblGrid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kladov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kladní kníž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obn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ávě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jvýhodnější produkt GE Money Bank je: TERMÍNOVANÝ VKL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eškeré služby jsou zdar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Úrok p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a. =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cs-CZ" sz="2800" spc="-1" strike="noStrike" u="sng">
                <a:solidFill>
                  <a:srgbClr val="ffff00"/>
                </a:solidFill>
                <a:uFillTx/>
                <a:latin typeface="Arial"/>
              </a:rPr>
              <a:t>4 067,25 K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jvýhodnější produkt České spořitelny je: VKLADOVÝ ÚČ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škeré služby jsou zdar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Úrok p. a. =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4 137,38 K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6000"/>
                            </p:stCondLst>
                            <p:childTnLst>
                              <p:par>
                                <p:cTn id="1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7000"/>
                            </p:stCondLst>
                            <p:childTnLst>
                              <p:par>
                                <p:cTn id="1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8000"/>
                            </p:stCondLst>
                            <p:childTnLst>
                              <p:par>
                                <p:cTn id="2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11:41:13Z</dcterms:created>
  <dc:creator>OA TGM a JŠ</dc:creator>
  <dc:description/>
  <dc:language>en-US</dc:language>
  <cp:lastModifiedBy>OEM</cp:lastModifiedBy>
  <dcterms:modified xsi:type="dcterms:W3CDTF">2008-08-10T21:06:05Z</dcterms:modified>
  <cp:revision>12</cp:revision>
  <dc:subject/>
  <dc:title>Úroky u jednotlivých produktů</dc:title>
</cp:coreProperties>
</file>