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A5A7-5AD1-48AC-913E-7E18468B8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C14C-FBCD-4B6C-8220-BC282361F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FC52-D9AC-4899-A463-EFC4801A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DE8-7E80-49A5-9753-D82CD419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1A81-9A2E-4DAB-8C97-E164C0FC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604D-4D02-46CA-AC96-AE97E24A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326F-74E5-4AD7-8903-65C7907F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75F8-245D-41BD-8212-9F55AF4B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681C-84B5-43CA-9FD1-527C4D9B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3C9D-6D0F-4F50-9621-F1E2C12E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B108-0FD6-44C4-8E87-F43ABBC8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693-834B-425B-988D-05EF7235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9989-F363-41D6-92E1-962141FF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8C97-9FCE-4E9E-AF57-DD0C64C3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470E-D8E0-49BA-B3F8-DADBD2820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13336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áclav Mertin</a:t>
            </a:r>
            <a:br>
              <a:rPr sz="3200"/>
            </a:b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4.4.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Začlenění „nátlaku“ do kontextu stávajících předpisů</a:t>
            </a:r>
            <a:endParaRPr b="1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kolský zá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ákon o rodi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innost pečovat o tělesné a duševní zdra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ávaznost péče a dáv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VýP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této fázi vznikne plán podpory, který podepíše škola, rodiče, event. i žá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krét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č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ol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koly“ pro všechny zúčastně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Komplikace realizac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mítne podeps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á právo, škola plní to, co lze bez souhlasu rodičů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souhlasí, podepíše a nepl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škola naléhá na plnění nebo modifikuje návr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ávaznost dalších opatř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 vyšetření a začlenění do kategorií, ale hledání a poskytování c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ktická pomoc poradenského systému  (individuální a skupinová práce s dětmi, vzdělávání rodič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álná podpora OSPO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adná psychiatrická pom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nočasové ak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Změny na straně školstv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kolství musí zajistit vzdělávání učitel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školní docházka by se měla změnit na povinné vzdělávání (změna ústavního zá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tevře se větší prostor rodině, ale i šk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by došlo ke vzdělávání ve škole, musí i rodiče akceptovat podmínky šk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raznější reorientace poradenských služ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Rádio Jerevan</a:t>
            </a: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hlásí“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Školy budou nekázeň žáků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it smlouvou s rodiči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avrhl ministr Dobe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(idnes.cz, 2.4.2011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oblémy s chováním žáků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sou reáln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bírají čas na u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rožují bezpečnost a pohodu žáků i učitel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ižují efekt výu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ožná řeš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sílení pozice učitele (např. učitel jako veřejná osob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výraznění sankcí vůči žákům i rodičů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ístnosti ve škole, kde by byl žák pod dohled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yšetření v PPP bez souhlasu rodič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debírání dáv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Škola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odborná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edukační instituc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ární zaměření na edukaci, tedy na vzdělání a výchovu dítě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kundární zaměření na podporu a pomoc rodičů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Vý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vytváří rám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není řeš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912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ěřený primárně na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mo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dítěti, rodině i učiteli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ž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kundárně na rep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guje na potenciální ohrožení nebo na problémy v zárod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Učitel zachytí možnost problémů či jejich výskyt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Nutno začít na prvním stupni (problémy nebývají závažné, rodiče jsou ochotnější spolupracovat)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Kontakt s rodiči,  konkrétní domluv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tručný zápis, žádná formalizovaná dohod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jde ke zlepšení/nenastane problé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ní dále co ře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Problém přetrváv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intenzívnění práce školy, spolupráce s rodiči, s odbornými institu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lást otázky, co lze udělat ke zlepšení situa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ádět možnosti škol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žádat, co udělají rodiče, případně někdo jin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ést i další postup, když se situace nebude měnit - zesílení „nátlaku“ na rodič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8:06:01Z</dcterms:created>
  <dc:creator>notebook</dc:creator>
  <dc:description/>
  <dc:language>en-US</dc:language>
  <cp:lastModifiedBy>Install</cp:lastModifiedBy>
  <dcterms:modified xsi:type="dcterms:W3CDTF">2011-04-04T04:58:53Z</dcterms:modified>
  <cp:revision>39</cp:revision>
  <dc:subject/>
  <dc:title>Individuální výchovný plán</dc:title>
</cp:coreProperties>
</file>