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5B759-165A-45D9-B696-8EBC8F7C70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2308B-5F8E-4585-8F85-ABC3C0D842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3B16-8104-4D36-A758-EE28A2512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F7A8-B06B-4C99-A4CD-C3EBC0419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C184-6974-4C98-8BAA-B12839807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5708-A7F2-4E2A-AB50-13E61243A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016B-9BBB-4F4D-9B0B-92B817A2E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4F1D-5DFE-49EF-8BB1-7349B9C9A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6A7E-51D3-485B-96FB-63B84AEC7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6FA5-318E-466A-864F-801B94C3F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DB72-7730-48FB-A7DD-E610A831F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2445-C96D-470F-A0DF-350D5415C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B6F7-640C-4CF6-98A7-74753BB72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F8D1-DED0-4419-9AF3-52013D3AA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1A84D-5881-4508-A108-6D3A8B149D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2133360"/>
            <a:ext cx="89647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Individuální výchovný plán</a:t>
            </a:r>
            <a:endParaRPr b="1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Václav Mertin</a:t>
            </a:r>
            <a:br>
              <a:rPr sz="3200"/>
            </a:b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4.4.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Calibri"/>
              </a:rPr>
              <a:t>Začlenění „nátlaku“ do kontextu stávajících předpisů</a:t>
            </a:r>
            <a:endParaRPr b="1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Školský zák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ákon o rodin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vinnost pečovat o tělesné a duševní zdrav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ávaznost péče a dáv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IVýP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 této fázi vznikne plán podpory, který podepíše škola, rodiče, event. i žá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VýP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onkrét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učn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lizovateln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ontrolovateln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Úkoly“ pro všechny zúčastněn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Komplikace realizace IVýP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dič odmítne podeps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á právo, škola plní to, co lze bez souhlasu rodičů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dič je upozorněn na navazující kroky školy, když se situace nebude lepš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dič odsouhlasí, podepíše a neplní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škola naléhá na plnění nebo modifikuje návrh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dič je upozorněn na navazující kroky školy, když se situace nebude lepš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Návaznost dalších opatření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 vyšetření a začlenění do kategorií, ale hledání a poskytování c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aktická pomoc poradenského systému  (individuální a skupinová práce s dětmi, vzdělávání rodičů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Reálná podpora OSPOD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ípadná psychiatrická pomo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olnočasové akti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Změny na straně školství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Školství musí zajistit vzdělávání učitelů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vinná školní docházka by se měla změnit na povinné vzdělávání (změna ústavního zákon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Otevře se větší prostor rodině, ale i ško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Aby došlo ke vzdělávání ve škole, musí i rodiče akceptovat podmínky škol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raznější reorientace poradenských služe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cs-CZ" sz="4800" spc="-1" strike="noStrike">
                <a:solidFill>
                  <a:srgbClr val="000000"/>
                </a:solidFill>
                <a:latin typeface="Calibri"/>
              </a:rPr>
              <a:t>Rádio Jerevan</a:t>
            </a:r>
            <a:r>
              <a:rPr b="1" lang="cs-CZ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4800" spc="-1" strike="noStrike">
                <a:solidFill>
                  <a:srgbClr val="000000"/>
                </a:solidFill>
                <a:latin typeface="Calibri"/>
              </a:rPr>
              <a:t>hlásí“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Školy budou nekázeň žáků 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řešit smlouvou s rodiči, </a:t>
            </a: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navrhl ministr Dobeš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(idnes.cz, 2.4.2011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Problémy s chováním žáků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Jsou reáln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bírají čas na uče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hrožují bezpečnost a pohodu žáků i učitel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nižují efekt výu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Možná řešení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sílení pozice učitele (např. učitel jako veřejná osoba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Zvýraznění sankcí vůči žákům i rodičů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ístnosti ve škole, kde by byl žák pod dohlede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Vyšetření v PPP bez souhlasu rodičů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debírání dáv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Škola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4800" spc="-1" strike="noStrike" u="sng">
                <a:solidFill>
                  <a:srgbClr val="000000"/>
                </a:solidFill>
                <a:uFillTx/>
                <a:latin typeface="Calibri"/>
              </a:rPr>
              <a:t>odborná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 edukační instituce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mární zaměření na edukaci, tedy na vzdělání a výchovu dítě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kundární zaměření na podporu a pomoc rodičů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IVýP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Individuální výchovný plán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95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VýP vytváří ráme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VýP není řešení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Individuální výchovný plán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1912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Zaměřený primárně na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omoc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dítěti, rodině i učiteli,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ž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ekundárně na repres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aguje na potenciální ohrožení nebo na problémy v zárodk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1. fáze IVýP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79280" y="160020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Učitel zachytí možnost problémů či jejich výskyt 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Nutno začít na prvním stupni (problémy nebývají závažné, rodiče jsou ochotnější spolupracovat)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Kontakt s rodiči,  konkrétní domluva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9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alibri"/>
              </a:rPr>
              <a:t>Stručný zápis, žádná formalizovaná dohoda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2. fáze IVýP</a:t>
            </a:r>
            <a:endParaRPr b="1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-536040">
              <a:spcBef>
                <a:spcPts val="799"/>
              </a:spcBef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jde ke zlepšení/nenastane problé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36040" indent="-536040"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69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ní dále co řeš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6040" indent="-536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) Problém přetrvává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69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intenzívnění práce školy, spolupráce s rodiči, s odbornými institucem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69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klást otázky, co lze udělat ke zlepšení situace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69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vádět možnosti školy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69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žádat, co udělají rodiče, případně někdo jin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71560" indent="-469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vést i další postup, když se situace nebude měnit - zesílení „nátlaku“ na rodič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08:06:01Z</dcterms:created>
  <dc:creator>notebook</dc:creator>
  <dc:description/>
  <dc:language>en-US</dc:language>
  <cp:lastModifiedBy>Install</cp:lastModifiedBy>
  <dcterms:modified xsi:type="dcterms:W3CDTF">2011-04-04T04:58:53Z</dcterms:modified>
  <cp:revision>39</cp:revision>
  <dc:subject/>
  <dc:title>Individuální výchovný plán</dc:title>
</cp:coreProperties>
</file>