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0259-62CB-4714-B296-AA02CCD1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9C11-3D42-40D4-A894-F755A24D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4085-0D45-4745-9C51-6237C3EA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AB06-B470-416B-AA11-B0006C58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0391-E7BA-4805-B73D-9D55DC9D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8EA6-B10D-4555-9A11-81EDBCA5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DBCE-05A1-4A46-93CC-7DA7568C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7957-963E-4BA4-BCAE-AAE20453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BC04-386B-4650-BC68-3F441867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7D61-AC7E-47A7-984F-3B48CEBC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AE22-6145-4DED-BA78-5FCA6C00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BEB8-651B-480F-8E01-B8251E0A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BF55-5BB6-4D85-B481-43944DAD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7B2E-959A-400F-AA5D-1D0F4A63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5584-EE85-47B6-ACCB-FBA76A58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752D-0B7D-48FF-A666-9B07E66CA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07CB-D99F-4237-BE6A-835BBF2C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0A79-FABB-4140-9BE2-983D9BEF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A6BE-16B1-412B-B418-41C835C6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3188-4767-4E8C-B2F3-B1A61426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47A8-C85D-4DB7-A7E3-BBCC2EEE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5B1F-9CBB-4EAA-9AA4-0AE2146B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E6F2-B709-44A4-BFAE-6D634B83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CD15-B732-400D-A3A6-3E3B116E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68A5-58C0-4474-94C6-7F93CE17E436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D819-3DA8-4088-8EA2-3842619A9B62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Smlouvy s rodiči jako cesta ke komunikaci se škol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hDr. Jana Zapletalo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Smlouvy s rodiči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pozadí spoluprá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sané x úst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ují pravidla pro spoluprác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ísemná pravidla podtrhují vážnost sdělen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máhají k větší zodpovědnosti a omezují manipul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řípadech nedorozumění jsou odrazovým můstkem k další komunik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ují spoluzodpovědnost rodičů a šk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ují pravidla a sankce za nedodržení domluvených pravi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Co je třeba dodrže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fektivita smluvních ujednání je ovlivně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zájemnou důvěr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rozumitelností nastavených pravi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ením platnosti smlouvy v čase a možnosti jejich úprav (dlouhodobé, krátkodobé, krizové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ným specifikováním opatř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ením zodpovědností plnění závazků, forem komunikace a možných sank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nímání možností smlouvy v kontextu typu řešeného problé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Proč vlastně smlouvy s rodiči..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difikace pravidel vede k jejich větší srozumitelnosti a tím se otvírá prostor k jejich dodrž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pracuje zejména s faktory spoluprác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tože si je vědoma opory v zákonných normách (školský zákon, zákon o rodině §31-zodpovědnost rodičů,§43 a §44 výchovná opatření, trestní zákon – ohrožení výchovy dětí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eventivní charakter smluv i ve vztahu k dění ve šk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idelné vyhodnocování poskytuje dobrou zpětnou vazbu oběma stran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Smlouvy s rodiči jako cesta ke komunikaci 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valita smluvního vztahu vždy závisí na přístupu obou str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louva je živý dokument, který nemá být pouhým potvrzením formal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louvy svádí k porušování x současně dávají prostor k nastavení spoluprá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zcela zřejmé, že vždy budou tací, kteří pravidla nebudou dodržovat, ale to nic nemění na potřebě o věcech komunikovat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kuji za pozorno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8040960" cy="4403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dina a škola - instituce, které směřují k transmisi kultury, k rozvoji jednotlivce na pozadí vztahové sítě prostřednictvím vzdělávání a výchov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růstá váha školního kapitálu, dětství se „prodlužuje“ až do dospělost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není pouhým rámcem pro rozvíjení se, představuje určité nároky, zkoušky i konflikty, které vstupují do mezigeneračních vztahů a formují identitu žá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dává možnost opustit svoje rodiče a současně v nich pokračov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0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Rodina a škola - milníky přípravy na život 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Vztah rodiny a školy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Škola a rodina mají přitom odlišná poslání, která jsou na sobě vzájemně závislá a proto je jejich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ztah často vyhrocen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dič postupuje jako spotřebitel a hledá školu, která mu pomůže naplnit očekávání vkládaná do jeho dě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asto postupuje v logice vlastních zkušeností a je limitován svými možnost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Rodina  versus škola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di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kytuje emocionální zázemí, vztahy, vzory jednání i pracovních činností, způsoby náhledu na realitu i její posuzování a hodnocení, současně dává zkušenosti z prožitých konfliktů i radosti, setkání s  odměnou i tre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Škol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kytuje pravidla, vědomosti, dovednosti a vytváří vztahy, které pomáhají jednotlivci najít místo ve společnosti a také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ní mikrosvět a jeho rizika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působy dosahování cílů školy jako institu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Étos vzdělá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tomnost osobních příběhů (učitel, ředitel, žá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tah a vzta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amota a nesnadná komun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rach a zastraš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Školní psycholog a podpora komunikace 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ytvoření vnitřního systému komunikace, který ovlivňuje kvalitu vztahové sítě ško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koordinátorem služeb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oskytovaných ŠPP s definováním odpovědnost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průvodc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školní docházkou žáka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specialistou na vztah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ývoje a uč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spolupracovník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učitel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poradcem a konzultant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ro rodič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edstavu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jednotící prvek v intervenci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koordinuje opatření školy, rodiny a dalších odborníků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metodolog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komplexních nástrojů poznávání dětí a ško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hlavním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„nástrojem“ prevence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e školním prostřed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tím, kdo pomáhá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vytvářet rovné podmínk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ro vzdělávání žáků s potřebou podpůrných opatř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a nabízí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zultace s psychologem/speciálním pedagogem (telefonická, emailov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rizové intervence, pomoc jednotlivcům i tříd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moc pedagogům i rodičů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naha podporovat spolupráci s rodiči a vytvářet netradiční formy komunikace (setkávání s rodiči o víkendech, karnevaly, plesy, drakiády, koncerty, burzy, výlety do zahraničí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a občas také musí…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hat“ na nespolupracující rodič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stupovat do rodin přes prostředníky (asistenti, OSPOD…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unikovat s hyperkritickými rodiči, zvládat agresivní rodiče (alkohol, drogy,vulgarita), pracovat s hyperprotektivními rodiči, zvládat komunikaci v době partnerských krizí a rozvodů, pomáhat matkám samoživitelkám a bezradným rodičům, pomáhat s existenciálními problémy…až po tzv. „průtokáč“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Hledání pomoci…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tváříme různé typy dokumentů : „Co je psáno, to je dáno..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znikají smlouvy o nastavení podpůrných mechanismů při vzdělávání integrovaného žáka (IV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o seznámení s vnitřními pravidly školy (školní řád, působení školního psychologa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pisy z jednání výchovných komisí, které vymezují pravidla další spolupráce mezi žákem-školou -rodino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o zajištění omlouvání absencí žáků (co rodiče zajistí, na co budou dohlížet, jak se budou vzájemně informovat.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na podporu změny v chování žáka, mají chara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rizového plánu (nepracující žák v hodině x práce po vyučování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v oblasti nefungujících vztahů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2:55:56Z</dcterms:created>
  <dc:creator>bodovav</dc:creator>
  <dc:description/>
  <dc:language>en-US</dc:language>
  <cp:lastModifiedBy>ZapletalovaJ</cp:lastModifiedBy>
  <dcterms:modified xsi:type="dcterms:W3CDTF">2011-04-04T06:42:45Z</dcterms:modified>
  <cp:revision>34</cp:revision>
  <dc:subject/>
  <dc:title>Koncepce poradenských služeb  poskytovaných ve škole </dc:title>
</cp:coreProperties>
</file>