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F292-1A0C-4859-8C5B-928B85C40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5579-0797-4B08-AFD4-E0BE7259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92C7-B9FF-4804-8854-E8C39B3FA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B1CC-FA4E-4560-B66C-D8F66F200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CBAEF-0E97-40B2-A392-3A5BF32C3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507E-2EC8-4F4C-ADFA-BA33C07E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0B82-F487-4D28-9043-E3028068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6CC5-6E5F-4480-98AE-AC2EF1ED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2C336-3FDF-4A20-8B99-E2EB006F2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4DE8-D11D-442E-98F6-B7BD4F454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B09C0-A45E-4E6B-A913-BF586AFD4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A9AF-0206-49E1-B800-0D9DEB705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8F06B-E68F-4325-890F-55DE9AB6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9CE3A-DA00-46FB-A090-0B8A5FEA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C91E-F5B3-4643-B1B9-ADEEDCF6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78FB0-B844-41A9-B12B-615CEB94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7207-1F07-4044-9D85-9B6EC7A8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0D16-133E-4739-A5A8-E080E0C0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B40C-0198-4ECB-9F94-3A9C406A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05D4-2815-4F1B-977F-A6630FEC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661B-D269-4124-8A2E-C49892DD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76E-A83A-40A6-8DA0-AF5BE80A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645D-F5AE-468B-A323-5D84DF17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83B4-247C-4EB6-B98C-8F5A240F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E718F-213A-490E-BDD4-1BDEE3B730D0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A296-F792-4C04-92FD-6BA62E424CC1}" type="slidenum">
              <a:rPr b="0" lang="cs-CZ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3600" spc="-1" strike="noStrike">
                <a:solidFill>
                  <a:srgbClr val="ffffff"/>
                </a:solidFill>
                <a:latin typeface="Times New Roman"/>
              </a:rPr>
              <a:t>Smlouvy s rodiči jako cesta ke komunikaci se škol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hDr. Jana Zapletalov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Smlouvy s rodiči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 pozad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sané x úst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pro spolupráci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ísemná pravidla podtrhují vážnost sdělen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áhají k větší zodpovědnosti a omezují manipul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 případech nedorozumění jsou odrazovým můstkem k další komunikac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ují spoluzodpovědnost rodičů a šk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ují pravidla a sankce za nedodržení domlu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Co je třeba dodrže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Efektivita smluvních ujednání je ovlivně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zájemnou důvěro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rozumitelností nastavených pravid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ymezením platnosti smlouvy v čase a možnosti jejich úprav (dlouhodobé, krátkodobé, krizové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ným specifikováním opatře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tanovením zodpovědností plnění závazků, forem komunikace a možných sankc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nímání možností smlouvy v kontextu typu řešeného problém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Proč vlastně smlouvy s rodiči..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difikace pravidel vede k jejich větší srozumitelnosti a tím se otvírá prostor k jejich dodržování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pracuje zejména s faktory spoluprác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řestože si je vědoma opory v zákonných normách (školský zákon, zákon o rodině §31-zodpovědnost rodičů,§43 a §44 výchovná opatření, trestní zákon – ohrožení výchovy dětí.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eventivní charakter smluv i ve vztahu k dění ve šk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ravidelné vyhodnocování poskytuje dobrou zpětnou vazbu oběma stran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Smlouvy s rodiči jako cesta ke komunikaci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valita smluvního vztahu vždy závisí na přístupu obou str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a je živý dokument, který nemá být pouhým potvrzením formal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mlouvy svádí k porušování x současně dávají prostor k nastavení spoluprá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e zcela zřejmé, že vždy budou tací, kteří pravidla nebudou dodržovat, ale to nic nemění na potřebě o věcech komunikovat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Děkuji za pozornos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539640" y="1628280"/>
            <a:ext cx="8040960" cy="440388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Rodina a škola - instituce, které směřují k transmisi kultury, k rozvoji jednotlivce na pozadí vztahové sítě prostřednictvím vzdělávání a výchov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Narůstá váha školního kapitálu, dětství se „prodlužuje“ až do dospělost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není pouhým rámcem pro rozvíjení se, představuje určité nároky, zkoušky i konflikty, které vstupují do mezigeneračních vztahů a formují identitu žák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Škola dává možnost opustit svoje rodiče a současně v nich pokračov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04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Rodina a škola - milníky přípravy na život 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Vztah rodiny a školy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Škola a rodina mají přitom odlišná poslání, která jsou na sobě vzájemně závislá a proto je jejich </a:t>
            </a:r>
            <a:r>
              <a:rPr b="0" lang="cs-CZ" sz="3200" spc="-1" strike="noStrike" u="sng">
                <a:solidFill>
                  <a:srgbClr val="ffffff"/>
                </a:solidFill>
                <a:uFillTx/>
                <a:latin typeface="Times New Roman"/>
              </a:rPr>
              <a:t>vztah často vyhrocen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Rodič postupuje jako spotřebitel a hledá školu, která mu pomůže naplnit očekávání vkládaná do jeho dět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Často postupuje v logice vlastních zkušeností a je limitován svými možnostm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Rodina  versus škola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Rodin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emocionální zázemí, vztahy, vzory jednání i pracovních činností, způsoby náhledu na realitu i její posuzování a hodnocení, současně dává zkušenosti z prožitých konfliktů i radosti, setkání s  odměnou i tre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ffffff"/>
                </a:solidFill>
                <a:uFillTx/>
                <a:latin typeface="Times New Roman"/>
              </a:rPr>
              <a:t>Škola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poskytuje pravidla, vědomosti, dovednosti a vytváří vztahy, které pomáhají jednotlivci najít místo ve společnosti a také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ní mikrosvět a jeho rizika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Způsoby dosahování cílů školy jako instituc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Étos vzdělá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Přítomnost osobních příběhů (učitel, ředitel, žá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Vztah a vzta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amota a nesnadná komunik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trach a zastrašován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33cccc"/>
                </a:solidFill>
                <a:latin typeface="Times New Roman"/>
              </a:rPr>
              <a:t>Školní psycholog a podpora komunikace </a:t>
            </a:r>
            <a:endParaRPr b="0" lang="en-US" sz="40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Vytvoření vnitřního systému komunikace, který ovlivňuje kvalitu vztahové sítě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koordinátorem služeb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oskytovaných ŠPP s definováním odpovědnost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růvodc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školní docházkou žák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ecialistou na vztah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ývoje a uč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spolupracovník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učitel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poradcem a konzultant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rodič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Představu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jednotící prvek v intervenci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(koordinuje opatření školy, rodiny a dalších odborníků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metodologem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komplexních nástrojů poznávání dětí a ško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hlavním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„nástrojem“ prevence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ve školním prostřed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Je tím, kdo pomáhá </a:t>
            </a:r>
            <a:r>
              <a:rPr b="1" i="1" lang="cs-CZ" sz="2000" spc="-1" strike="noStrike">
                <a:solidFill>
                  <a:srgbClr val="ffffff"/>
                </a:solidFill>
                <a:latin typeface="Times New Roman"/>
              </a:rPr>
              <a:t>vytvářet rovné podmínky</a:t>
            </a:r>
            <a:r>
              <a:rPr b="0" lang="cs-CZ" sz="2000" spc="-1" strike="noStrike">
                <a:solidFill>
                  <a:srgbClr val="ffffff"/>
                </a:solidFill>
                <a:latin typeface="Times New Roman"/>
              </a:rPr>
              <a:t> pro vzdělávání žáků s potřebou podpůrných opatř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nabízí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nzultace s psychologem/speciálním pedagogem (telefonická, emailová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rizové intervence, pomoc jednotlivcům i třídá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Pomoc pedagogům i rodičů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Snaha podporovat spolupráci s rodiči a vytvářet netradiční formy komunikace (setkávání s rodiči o víkendech, karnevaly, plesy, drakiády, koncerty, burzy, výlety do zahraničí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Škola občas také musí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hat“ na nespolupracující rodič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Vstupovat do rodin přes prostředníky (asistenti, OSPOD….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munikovat s hyperkritickými rodiči, zvládat agresivní rodiče (alkohol, drogy,vulgarita), pracovat s hyperprotektivními rodiči, zvládat komunikaci v době partnerských krizí a rozvodů, pomáhat matkám samoživitelkám a bezradným rodičům, pomáhat s existenciálními problémy…až po tzv. „průtokáč“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33cccc"/>
                </a:solidFill>
                <a:latin typeface="Times New Roman"/>
              </a:rPr>
              <a:t>Hledání pomoci…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ytváříme různé typy dokumentů : „Co je psáno, to je dáno..“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znikají smlouvy o nastavení podpůrných mechanismů při vzdělávání integrovaného žáka (IV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seznámení s vnitřními pravidly školy (školní řád, působení školního psychologa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Zápisy z jednání výchovných komisí, které vymezují pravidla další spolupráce mezi žákem-školou -rodino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o zajištění omlouvání absencí žáků (co rodiče zajistí, na co budou dohlížet, jak se budou vzájemně informovat.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na podporu změny v chování žáka, mají charak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krizového plánu (nepracující žák v hodině x práce po vyučování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mlouvy v oblasti nefungujících vztahů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0T12:55:56Z</dcterms:created>
  <dc:creator>bodovav</dc:creator>
  <dc:description/>
  <dc:language>en-US</dc:language>
  <cp:lastModifiedBy>ZapletalovaJ</cp:lastModifiedBy>
  <dcterms:modified xsi:type="dcterms:W3CDTF">2011-04-04T06:42:45Z</dcterms:modified>
  <cp:revision>34</cp:revision>
  <dc:subject/>
  <dc:title>Koncepce poradenských služeb  poskytovaných ve škole </dc:title>
</cp:coreProperties>
</file>